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A0B-EA7F-4DAB-9B79-F37B2CCE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279-5492-4F25-BD30-1C5EC467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1C83-4A07-4973-86CD-1DD10E8D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42E-D190-499A-9EE8-BA298F88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040-0F2F-44AE-9EDB-B4E0EB9F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E92-8CC4-4F7A-9273-C2D177F4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150-7AB9-49DD-BF53-DDFC64F8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464-40AA-457D-BBAB-467C47D1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294-3FB2-488A-A0A5-5095DD29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6CB-FE7C-45A4-B98C-573C1491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E19-EC12-4ED0-8443-2C7027E5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BFF-6CD1-4314-9932-67D7FC50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2F74-F78F-4769-B0EF-1A604CE43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Confucianism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Calibri"/>
              </a:rPr>
              <a:t>and Confucius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(551–479 B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Jenna Wein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etc.usf.edu/clipart/7500/7548/confucius_7548_lg.gif"/>
          <p:cNvPicPr/>
          <p:nvPr/>
        </p:nvPicPr>
        <p:blipFill>
          <a:blip r:embed="rId1"/>
          <a:stretch/>
        </p:blipFill>
        <p:spPr>
          <a:xfrm>
            <a:off x="6946920" y="3886200"/>
            <a:ext cx="21970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cityofdharmarealm.org/Events/2008/pictures/confucius.jpg"/>
          <p:cNvPicPr/>
          <p:nvPr/>
        </p:nvPicPr>
        <p:blipFill>
          <a:blip r:embed="rId2"/>
          <a:stretch/>
        </p:blipFill>
        <p:spPr>
          <a:xfrm>
            <a:off x="0" y="0"/>
            <a:ext cx="2135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974960" y="1908000"/>
            <a:ext cx="5041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Calibri"/>
              </a:rPr>
              <a:t>Confuci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Chinese philosop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His teachings have influenced East Asia, including China, Korea, Japan, and Vietnam for many centu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lived from 551–479 B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His ideas were not accepted during his life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Confucius did not leave any writings of his own. Instead, we have only texts with recollections, passed down from his disciples and their students.</a:t>
            </a:r>
            <a:br>
              <a:rPr sz="3200"/>
            </a:br>
            <a:r>
              <a:rPr b="0" lang="en-US" sz="3200" spc="-1" strike="noStrike">
                <a:solidFill>
                  <a:srgbClr val="66ff33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alibri"/>
              </a:rPr>
              <a:t>More Confuciu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He was born Tsu, which is now the Chinese Province of Shantu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His father was a magistrate and soldier. Who dies when he was young, leaving him to grow into pover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At the age of 22, he started the first private school in China, teaching his philosophy of ideal personal conduct, benevolence, and justice by la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More Confuciu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n his fifties, he became the Grand Official of Justice for the State of 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fter leaving that position, he spent the last 13 years of his life traveling around China teaching his philosoph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ilial P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ilial piety” is considered among the greatest of virtues and must be shown towards both the living and the dead. The term "filial" characterizes the respect that a child, originally a son, should show to his paren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imilar to that of ancestor worshi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edu.people.com.cn/mediafile/200701/25/F200701250311223770123376.jpg"/>
          <p:cNvPicPr/>
          <p:nvPr/>
        </p:nvPicPr>
        <p:blipFill>
          <a:blip r:embed="rId1"/>
          <a:stretch/>
        </p:blipFill>
        <p:spPr>
          <a:xfrm>
            <a:off x="0" y="4648320"/>
            <a:ext cx="3021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-139680" y="1365120"/>
            <a:ext cx="9290160" cy="549936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2"/>
          <a:stretch/>
        </p:blipFill>
        <p:spPr>
          <a:xfrm>
            <a:off x="1170000" y="146160"/>
            <a:ext cx="6742080" cy="193824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3"/>
          <a:stretch/>
        </p:blipFill>
        <p:spPr>
          <a:xfrm>
            <a:off x="2938320" y="4303800"/>
            <a:ext cx="51688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 Anal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Analects of Confucius  are the closest primary source we have for his thou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book relates his sayings and discussions with rulers and disciples in short passa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re is considerable debate over how to interpret the Anal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e Chinese title literally means "discussion over [Confucius'] word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chinabooks.ch/catalog/images/48.0096.jpg"/>
          <p:cNvPicPr/>
          <p:nvPr/>
        </p:nvPicPr>
        <p:blipFill>
          <a:blip r:embed="rId1"/>
          <a:stretch/>
        </p:blipFill>
        <p:spPr>
          <a:xfrm>
            <a:off x="2057400" y="0"/>
            <a:ext cx="1066680" cy="1503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www.chinabooks.ch/catalog/images/48.0096.jpg"/>
          <p:cNvPicPr/>
          <p:nvPr/>
        </p:nvPicPr>
        <p:blipFill>
          <a:blip r:embed="rId2"/>
          <a:stretch/>
        </p:blipFill>
        <p:spPr>
          <a:xfrm>
            <a:off x="6019920" y="0"/>
            <a:ext cx="106668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he Death of Confuci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n mainland China, Confucius is honored on the anniversary of his death - October 1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e his honored on the anniversary of his birth (September 28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is birthday is a legal holiday in Taiw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t is referred to as Teacher's Day since Confucius is considered the greatest teacher in Chinese hi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Everything has its beauty, but now everyone sees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I hear and I forget, I see and I remember, I do and I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It doesn’t matter how slowly you go, as long as you do not 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alibri"/>
              </a:rPr>
              <a:t>What the superior man seeks in himself is what the small man seeks i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281160" y="12600"/>
            <a:ext cx="7716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4:06:52Z</dcterms:created>
  <dc:creator>cl10weindelj</dc:creator>
  <dc:description/>
  <dc:language>en-US</dc:language>
  <cp:lastModifiedBy>cl10weindelj</cp:lastModifiedBy>
  <dcterms:modified xsi:type="dcterms:W3CDTF">2009-03-16T14:36:28Z</dcterms:modified>
  <cp:revision>11</cp:revision>
  <dc:subject/>
  <dc:title>Confucianism</dc:title>
</cp:coreProperties>
</file>